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C74-4248-4763-9CCD-0DC23078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B4D-9369-478F-9682-5057D7DC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463-3F8D-4486-BD1E-574FA9EE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001-1AD2-4B02-A2B7-C5F9FF81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754-D77A-46CC-9B7A-C8E9F9D7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AEC-80A8-46C2-9B5A-DD065641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AD3-B8F8-40E5-8544-9B1C6234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4A9-7DC0-48AB-A5EA-97EAB820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2AB-6D99-4A36-904F-74BEDC48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20E-D409-4C85-B675-D421C500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815-5189-4B4E-B138-21C6E7D0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129-A003-4091-9B1A-D9DCF8F7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E306-ADD4-47D9-9B6E-865514FFA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arity@afghan.swa.army.mil" TargetMode="External"/><Relationship Id="rId2" Type="http://schemas.openxmlformats.org/officeDocument/2006/relationships/hyperlink" Target="file:///../default.aspx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09480" y="228600"/>
            <a:ext cx="77724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Volunteer Community Relations (VCR) is an all-volunteer program made possible by the generous donations of new and gently used clothing, shoes, toys, blankets, and school supplies from friends &amp; family back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anks for your follow throug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charity@afghan.swa.army.mi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314440" y="3809880"/>
            <a:ext cx="4496040" cy="157212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VCR Program (Pool 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STC-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PO, AE 09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s from multiple VCR members &amp; 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neteam.centcom.mil/default.aspx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5:52:59Z</dcterms:created>
  <dc:creator>samuel.e.timmons</dc:creator>
  <dc:description/>
  <dc:language>en-US</dc:language>
  <cp:lastModifiedBy>samuel.e.timmons</cp:lastModifiedBy>
  <dcterms:modified xsi:type="dcterms:W3CDTF">2008-04-25T15:59:47Z</dcterms:modified>
  <cp:revision>2</cp:revision>
  <dc:subject/>
  <dc:title>VCR Contact / Donation 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Picture</vt:lpwstr>
  </property>
</Properties>
</file>